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image5.jpeg" ContentType="image/jpeg"/>
  <Override PartName="/ppt/media/image9.wmf" ContentType="image/x-wmf"/>
  <Override PartName="/ppt/media/image8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cashreg.wav" ContentType="audio/x-wav"/>
  <Override PartName="/ppt/media/image10.wmf" ContentType="image/x-wmf"/>
  <Override PartName="/ppt/media/image4.jpeg" ContentType="image/jpeg"/>
  <Override PartName="/ppt/media/driveby.wav" ContentType="audio/x-wav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17E-D48A-4229-9D9C-AA63CC0D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F09-CB37-4FA9-9ECA-4F95F7D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977-60E3-4C49-8942-0146A0EC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D15-C6FA-4CD9-AD00-25FFAC9B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7AF-6E1B-4899-9668-96E2BD7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7D8-D02D-4640-ACFB-616AD87E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6AA-C2E7-4814-9B78-FF6E505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452-BC84-4D7B-B9C7-E7037981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FF4-F43E-4815-B192-01F20B0E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A3A-3A97-4217-A0F1-F9FE7DB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9C3-98BE-4CBA-AF56-188BFDC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524-67CD-4B08-88A6-BE00D8C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CE5-F7DB-46FA-B6E9-F16556370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ourdeuropephoto.free.fr/photos%20roumanie_fichiers/05-05-04%20DSCN035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jenscreativecorner.com/youre%20annoying%20me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swa329.org/images/anger.gi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images.google.co.uk/imgres?imgurl=http://www.lasplash.com/artman/uploads/couple-arguing-_1.jpg&amp;imgrefurl=http://www.lasplash.com/Romance/Will_Breathless_Brittany_Mixed-up_Mikela_and_Communicating_Carla_commit_to_relationships_or_just_get_committed_.php&amp;h=215&amp;w=300&amp;sz=17&amp;tbnid=x7IFN9LRP6gJ:&amp;tbnh=79&amp;tbnw=110&amp;start=11&amp;prev=/images%3Fq%3Darguing%26hl%3Den%26lr%3D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miko-usa.com/La%20&amp;%20me%20laughing%20copy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urdeuropephoto.free.fr/photos%20roumanie_fichiers/05-05-04%20DSCN0359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audio" Target="../media/camera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nscreativecorner.com/youre%20annoying%20me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glass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swa329.org/images/anger.gif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splash.com/artman/uploads/couple-arguing-_1.jpg&amp;imgrefurl=http://www.lasplash.com/Romance/Will_Breathless_Brittany_Mixed-up_Mikela_and_Communicating_Carla_commit_to_relationships_or_just_get_committed_.php&amp;h=215&amp;w=300&amp;sz=17&amp;tbnid=x7IFN9LRP6gJ:&amp;tbnh=79&amp;tbnw=110&amp;start=11&amp;prev=/images%3Fq%3Darguing%26hl%3Den%26lr%3D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imiko-usa.com/La%20&amp;%20me%20laughing%20copy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venderennes.com/Accueil/sorti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joygreetings.com/images/friends4.gif&amp;imgrefurl=http://www.joygreetings.com/confide.shtml&amp;h=218&amp;w=250&amp;sz=6&amp;tbnid=iEBQN8jJv_cJ:&amp;tbnh=92&amp;tbnw=106&amp;start=28&amp;prev=/images%3Fq%3Dto%2Bconfide%26start%3D20%26hl%3Den%26lr%3D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57240"/>
            <a:ext cx="8302680" cy="1312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s problème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53760" y="2179800"/>
            <a:ext cx="490968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Talking about your relation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3880" y="3094200"/>
            <a:ext cx="55627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Saying who you get on with and who           you don’t get on with and wh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mages.google.co.uk/images?q=tbn:LGCYAJ7pVqcJ:http://tourdeuropephoto.free.fr/photos%2520roumanie_fichiers/05-05-04%2520DSCN03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ttp://images.google.co.uk/images?q=tbn:WMAKkgmMMcYJ:http://www.jenscreativecorner.com/youre%2520annoying%2520m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149360" y="3703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ages.google.co.uk/images?q=tbn:VR193FyrxNEJ:http://www.uswa329.org/images/ang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962520"/>
            <a:ext cx="273528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http://www.ponpokopon.net/bleach4.jpg"/>
          <p:cNvPicPr/>
          <p:nvPr/>
        </p:nvPicPr>
        <p:blipFill>
          <a:blip r:embed="rId3"/>
          <a:stretch/>
        </p:blipFill>
        <p:spPr>
          <a:xfrm>
            <a:off x="0" y="0"/>
            <a:ext cx="38322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ages.google.co.uk/images?q=tbn:x7IFN9LRP6gJ:www.lasplash.com/artman/uploads/couple-arguing-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6858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978000" y="20574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mages.google.co.uk/images?q=tbn:IFV1_UufHhUJ:http://www.kimiko-usa.com/La%2520%26%2520me%2520laughing%2520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0"/>
            <a:ext cx="3809880" cy="289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ttp://images.google.co.uk/images?q=tbn:uM-HvDEOp18J:http://www.svenderennes.com/Accueil/sortir.jpg"/>
          <p:cNvPicPr/>
          <p:nvPr/>
        </p:nvPicPr>
        <p:blipFill>
          <a:blip r:embed="rId3"/>
          <a:stretch/>
        </p:blipFill>
        <p:spPr>
          <a:xfrm>
            <a:off x="533520" y="2438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ages.google.co.uk/images?q=tbn:iEBQN8jJv_cJ:www.joygreetings.com/images/friends4.gif"/>
          <p:cNvPicPr/>
          <p:nvPr/>
        </p:nvPicPr>
        <p:blipFill>
          <a:blip r:embed="rId4"/>
          <a:stretch/>
        </p:blipFill>
        <p:spPr>
          <a:xfrm>
            <a:off x="6629400" y="2286000"/>
            <a:ext cx="21286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\\ED-WGIRL-CS01\RMPackages\Applications\MS Publisher 2000 SP1\v1.2.0.0\PFiles\MSOffice\Clipart\standard\stddir1\BD00024_.WMF"/>
          <p:cNvPicPr/>
          <p:nvPr/>
        </p:nvPicPr>
        <p:blipFill>
          <a:blip r:embed="rId5"/>
          <a:stretch/>
        </p:blipFill>
        <p:spPr>
          <a:xfrm>
            <a:off x="1981080" y="42670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\\ED-WGIRL-CS01\RMPackages\Applications\MS Publisher 2000 SP1\v1.2.0.0\PFiles\MSOffice\Clipart\standard\stddir4\PE02647_.wmf"/>
          <p:cNvPicPr/>
          <p:nvPr/>
        </p:nvPicPr>
        <p:blipFill>
          <a:blip r:embed="rId6"/>
          <a:stretch/>
        </p:blipFill>
        <p:spPr>
          <a:xfrm>
            <a:off x="4724280" y="4267080"/>
            <a:ext cx="2121120" cy="223848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 flipH="1">
            <a:off x="198072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200040" y="297180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5562720" y="304812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400800" y="2286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17600" y="644400"/>
            <a:ext cx="70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Je m’entends bien avec…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6" descr="http://images.google.co.uk/images?q=tbn:LGCYAJ7pVqcJ:http://tourdeuropephoto.free.fr/photos%2520roumanie_fichiers/05-05-04%2520DSCN03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33720"/>
            <a:ext cx="365760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045040" y="5456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540560" y="59133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s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897640" y="503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père 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http://images.google.co.uk/images?q=tbn:WMAKkgmMMcYJ:http://www.jenscreativecorner.com/youre%2520annoying%2520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981080"/>
            <a:ext cx="3657600" cy="312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343400" y="5562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Comic Sans MS"/>
              </a:rPr>
              <a:t>m’ éner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81720" y="309600"/>
            <a:ext cx="602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J’en ai marre de……………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http://images.google.co.uk/images?q=tbn:VR193FyrxNEJ:http://www.uswa329.org/images/ang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81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55840" y="5380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s dispu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92600" y="5796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frère …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4" descr="http://www.ponpokopon.net/bleach4.jpg"/>
          <p:cNvPicPr/>
          <p:nvPr/>
        </p:nvPicPr>
        <p:blipFill>
          <a:blip r:embed="rId1"/>
          <a:stretch/>
        </p:blipFill>
        <p:spPr>
          <a:xfrm>
            <a:off x="1981080" y="1295280"/>
            <a:ext cx="38322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114800" y="58374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me critiq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32880" y="731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 …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362320" y="5586480"/>
            <a:ext cx="806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on se dispu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http://images.google.co.uk/images?q=tbn:x7IFN9LRP6gJ:www.lasplash.com/artman/uploads/couple-arguing-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0512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04320" y="65556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 contr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90920" y="655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vec ma soeur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286000" y="1557360"/>
            <a:ext cx="662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m’entends bie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12" descr="http://images.google.co.uk/images?q=tbn:IFV1_UufHhUJ:http://www.kimiko-usa.com/La%2520%26%2520me%2520laughing%2520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438280"/>
            <a:ext cx="541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55760" y="274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5" descr="http://images.google.co.uk/images?q=tbn:uM-HvDEOp18J:http://www.svenderennes.com/Accueil/sort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7445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ttp://images.google.co.uk/images?q=tbn:iEBQN8jJv_cJ:www.joygreetings.com/images/friends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7200" y="2514600"/>
            <a:ext cx="21286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28760" y="20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48120" y="149400"/>
            <a:ext cx="253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e peux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3470040" y="5014800"/>
            <a:ext cx="49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me confier à el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76960" y="1872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’ ai le droit de…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3" descr="\\ED-WGIRL-CS01\RMPackages\Applications\MS Publisher 2000 SP1\v1.2.0.0\PFiles\MSOffice\Clipart\standard\stddir1\BD00024_.WMF"/>
          <p:cNvPicPr/>
          <p:nvPr/>
        </p:nvPicPr>
        <p:blipFill>
          <a:blip r:embed="rId1"/>
          <a:stretch/>
        </p:blipFill>
        <p:spPr>
          <a:xfrm>
            <a:off x="685800" y="175248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121760" y="339876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m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" descr="\\ED-WGIRL-CS01\RMPackages\Applications\MS Publisher 2000 SP1\v1.2.0.0\PFiles\MSOffice\Clipart\standard\stddir4\PE02647_.wmf"/>
          <p:cNvPicPr/>
          <p:nvPr/>
        </p:nvPicPr>
        <p:blipFill>
          <a:blip r:embed="rId2"/>
          <a:stretch/>
        </p:blipFill>
        <p:spPr>
          <a:xfrm>
            <a:off x="3511440" y="2133720"/>
            <a:ext cx="2121120" cy="2238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4227480" y="43578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a té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143000" y="5673600"/>
            <a:ext cx="849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e peux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fair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ce qu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je v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38:32Z</dcterms:created>
  <dc:creator>Elisabeth Lampkin</dc:creator>
  <dc:description/>
  <dc:language>en-US</dc:language>
  <cp:lastModifiedBy>scollett</cp:lastModifiedBy>
  <dcterms:modified xsi:type="dcterms:W3CDTF">2011-01-30T07:04:31Z</dcterms:modified>
  <cp:revision>7</cp:revision>
  <dc:subject/>
  <dc:title>PowerPoint Presentation</dc:title>
</cp:coreProperties>
</file>